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738C-E035-4BBE-9722-803BBCE735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A36C-1355-4FF8-A2F6-D90AC7C9194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9C21-D64E-4CDB-B5F4-C74DD13B9A73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D7E8-47A6-4F02-A94D-D9BC2A2EDB7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BFEA-08A1-47C5-B374-C6314167E25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D038-C43D-4A0C-A4C5-B9DC4B1C5D0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F2A0-430F-4261-BADE-16512D84FCF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8865-96B2-4904-A2B3-A1042BF67D9C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5B9E-2705-4D8B-9DED-FDF75C3E2C81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EC4F-1274-4BD2-A05A-2E9DA2D91CED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ED57-9DE9-4B64-B6FC-9D74017A66D7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504B-B35B-4E3A-80D2-63B091C86DE8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71E1-14B5-4988-A5B6-9CCD4EE8E4B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784-BB3D-4938-832D-DA27E6AF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5F5B-6E82-4B57-A804-3CC841B0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3F28-5551-4008-8595-204679D4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801-DBC0-4B4B-9AE8-7B7F07C6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3488-491B-42F0-B0DE-41832AE5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EA54-5CBC-49B5-B475-7F843AEC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34E9-6B1D-426A-B4F6-A9849CD0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6D32-361F-45B3-A1AF-453600D4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0682-E21A-4A51-B2C8-13F10F92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B097-04E5-4AEC-AEEF-8E5F165D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E97E-6F0B-40DB-A771-8C4EA2D0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904E-52EE-41DD-8B91-2E24C270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D82A-7F71-484C-BF1B-968618F9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C9AF-2545-4CA8-A186-C2AEDDD4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9200-7270-491D-A99C-BBCF90E5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CB0E-C1E2-4AC0-8BF6-69F31C5E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A302-8468-45A2-867E-7F0D6658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371-D24E-41D4-BDD8-4A10CB9F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810F-3B9B-486A-A391-9F65B7F9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8E9-A044-488E-B457-72759F4A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FD25-4647-46BF-9C7B-030FC8AB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3D76-402B-4EDE-B88F-FACC2DE5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CDA-0A28-40B0-BD77-45733144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FA8C-B9C7-414C-A876-5E27BB0F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5547-3B32-4912-B6D7-1A30E2C5AF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A00C-181A-4EF3-9081-A4134B33F676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Bookman Old Style"/>
              </a:rPr>
              <a:t>Итоговая сессия Ученого совета РГГМУ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25-26 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января 20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11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 год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ведения о НИР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 в 2010 году (часть 2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79280" y="712800"/>
          <a:ext cx="8785440" cy="5505480"/>
        </p:xfrm>
        <a:graphic>
          <a:graphicData uri="http://schemas.openxmlformats.org/drawingml/2006/table">
            <a:tbl>
              <a:tblPr/>
              <a:tblGrid>
                <a:gridCol w="2346480"/>
                <a:gridCol w="3125880"/>
                <a:gridCol w="1309680"/>
                <a:gridCol w="200340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Прикладной эк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25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изи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атемати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927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Химии природной сред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082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ки и менеджмент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0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ки предприятия и учетных систе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7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оциально-гуманитарных наук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0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Прикладной информати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вязей с общественностью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ИС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0 211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 т.ч.: - Морской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нститу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8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ИГЭ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7 435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2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42 004,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Bookman Old Style"/>
              </a:rPr>
              <a:t>Участие в выставках и конференциях в 2010 году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6880" cy="35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Выставки</a:t>
            </a: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, всего – </a:t>
            </a:r>
            <a:r>
              <a:rPr b="1" lang="en-US" sz="1600" spc="-1" strike="noStrike">
                <a:solidFill>
                  <a:srgbClr val="eaeaea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eaeaea"/>
                </a:solidFill>
                <a:latin typeface="Bookman Old Style"/>
              </a:rPr>
              <a:t>в том числе   международные </a:t>
            </a:r>
            <a:r>
              <a:rPr b="0" lang="en-US" sz="1600" spc="-1" strike="noStrike">
                <a:solidFill>
                  <a:srgbClr val="eaeaea"/>
                </a:solidFill>
                <a:latin typeface="Bookman Old Style"/>
              </a:rPr>
              <a:t>- 8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Экспонаты</a:t>
            </a: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, представленные на выставках </a:t>
            </a:r>
            <a:r>
              <a:rPr b="1" lang="en-US" sz="1600" spc="-1" strike="noStrike">
                <a:solidFill>
                  <a:srgbClr val="eaeaea"/>
                </a:solidFill>
                <a:latin typeface="Bookman Old Style"/>
              </a:rPr>
              <a:t>- 8</a:t>
            </a: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Премии, дипломы, награды</a:t>
            </a: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 - </a:t>
            </a:r>
            <a:r>
              <a:rPr b="1" lang="en-US" sz="1600" spc="-1" strike="noStrike">
                <a:solidFill>
                  <a:srgbClr val="eaeaea"/>
                </a:solidFill>
                <a:latin typeface="Bookman Old Style"/>
              </a:rPr>
              <a:t>23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Bookman Old Style"/>
              </a:rPr>
              <a:t>Конференции –</a:t>
            </a: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 31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Bookman Old Style"/>
              </a:rPr>
              <a:t>в том числе  на базе вуза -  </a:t>
            </a:r>
            <a:r>
              <a:rPr b="0" lang="en-US" sz="1600" spc="-1" strike="noStrike">
                <a:solidFill>
                  <a:srgbClr val="eaeaea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Количество сотрудников,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выступивших на конференциях с докладами</a:t>
            </a: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 – </a:t>
            </a:r>
            <a:r>
              <a:rPr b="1" lang="en-US" sz="1600" spc="-1" strike="noStrike">
                <a:solidFill>
                  <a:srgbClr val="eaeaea"/>
                </a:solidFill>
                <a:latin typeface="Bookman Old Style"/>
              </a:rPr>
              <a:t>136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Bookman Old Style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Bookman Old Style"/>
              </a:rPr>
              <a:t>Издательская деятельность в 2010 году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684360" y="836640"/>
          <a:ext cx="7991280" cy="4976640"/>
        </p:xfrm>
        <a:graphic>
          <a:graphicData uri="http://schemas.openxmlformats.org/drawingml/2006/table">
            <a:tbl>
              <a:tblPr/>
              <a:tblGrid>
                <a:gridCol w="5937120"/>
                <a:gridCol w="205416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онографии, 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из них изданные вузо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ичество публикаций в сборниках трудов конференций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 том числе,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международных научных конференций, симпозиум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Учебники и учебные пособ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татьи, 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в зарубежных изданиях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в российских изданиях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5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Bookman Old Style"/>
              </a:rPr>
              <a:t>Пленарное заседание</a:t>
            </a:r>
            <a:br>
              <a:rPr sz="1800"/>
            </a:b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5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января 20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11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г., Актовый зал РГГМУ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Вступительное слово, ректор, Л.Н. Карлин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«Научная деятельность университета в 20</a:t>
            </a: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10</a:t>
            </a: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 году»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проректор по НР, В.Н. Воробье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«Современные изменение климата Санкт-Петербурга в связи с колебаниями атмосферной циркуляции в атлантико-европейском секторе Северного полушария», проф. А.И. Угрюмов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«Проблемы и методы обеспечения информационной безопасности»,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проф.  Т.М. Татарнико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«Долгосрочная оценка климатических изменений многолетнего стока Арктической зоны России», докторант Е.В.</a:t>
            </a: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Гайдуко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«Оценка экстремальных уровней загрязнения речных вод», проф. Шелутко В.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Times New Roman"/>
              </a:rPr>
              <a:t>«Коммуникации и эффективное партнерство в инновационной сфере», проф. И.П. Фиров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«Некоторые результаты исследования природной среды на основе синергетического анализа данных дистанционного зондирования из Космоса.» доцент Сычев В.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755640" y="1700280"/>
            <a:ext cx="7632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Bookman Old Style"/>
              </a:rPr>
              <a:t>Научная деятельность</a:t>
            </a:r>
            <a:r>
              <a:rPr b="1" lang="ru-RU" sz="3200" spc="-1" strike="noStrike">
                <a:solidFill>
                  <a:srgbClr val="ccecff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Российского государственного гидрометеорологического университе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Bookman Old Style"/>
              </a:rPr>
              <a:t>в 20</a:t>
            </a:r>
            <a:r>
              <a:rPr b="1" lang="en-US" sz="3200" spc="-1" strike="noStrike">
                <a:solidFill>
                  <a:srgbClr val="eaeaea"/>
                </a:solidFill>
                <a:latin typeface="Bookman Old Style"/>
              </a:rPr>
              <a:t>10</a:t>
            </a:r>
            <a:r>
              <a:rPr b="1" lang="ru-RU" sz="3200" spc="-1" strike="noStrike">
                <a:solidFill>
                  <a:srgbClr val="eaeaea"/>
                </a:solidFill>
                <a:latin typeface="Bookman Old Style"/>
              </a:rPr>
              <a:t> год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Bookman Old Style"/>
              </a:rPr>
              <a:t>Основные научные направления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РГГМ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68360" y="549360"/>
          <a:ext cx="8232840" cy="5775120"/>
        </p:xfrm>
        <a:graphic>
          <a:graphicData uri="http://schemas.openxmlformats.org/drawingml/2006/table">
            <a:tbl>
              <a:tblPr/>
              <a:tblGrid>
                <a:gridCol w="441000"/>
                <a:gridCol w="6535800"/>
                <a:gridCol w="1040760"/>
                <a:gridCol w="216000"/>
              </a:tblGrid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азвание научного направления (научной школы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ИР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3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-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зучение системы комплексного управления прибрежными зонами морей России, устойчивого социально-экономического развития прибрежных территорий, рационального использования природных ресурсов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074080" cy="74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Сводные сведения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о выполнении НИР</a:t>
            </a:r>
            <a:br>
              <a:rPr sz="2600"/>
            </a:b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в 2009/2010 году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08000" y="1341360"/>
          <a:ext cx="9036000" cy="4389480"/>
        </p:xfrm>
        <a:graphic>
          <a:graphicData uri="http://schemas.openxmlformats.org/drawingml/2006/table">
            <a:tbl>
              <a:tblPr/>
              <a:tblGrid>
                <a:gridCol w="684000"/>
                <a:gridCol w="4040280"/>
                <a:gridCol w="762120"/>
                <a:gridCol w="990720"/>
                <a:gridCol w="1218960"/>
                <a:gridCol w="1339920"/>
              </a:tblGrid>
              <a:tr h="381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сточник финансирован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ичество НИР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редства федерального бюджет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0 861,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6 824,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инистерство образования и науки РФ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7 220.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4 539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РФФ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447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 785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Другие Министерств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 194,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9 50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редства Субъектов Федерации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037,9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 786,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Хоздоговорные НИР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3 941,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36,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.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Зарубежные контракт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269,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19,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2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3 671,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42 004,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AutoShape 448"/>
          <p:cNvSpPr/>
          <p:nvPr/>
        </p:nvSpPr>
        <p:spPr>
          <a:xfrm flipH="1">
            <a:off x="8998920" y="234936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AutoShape 451"/>
          <p:cNvSpPr/>
          <p:nvPr/>
        </p:nvSpPr>
        <p:spPr>
          <a:xfrm flipH="1">
            <a:off x="6371640" y="234936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AutoShape 488"/>
          <p:cNvSpPr/>
          <p:nvPr/>
        </p:nvSpPr>
        <p:spPr>
          <a:xfrm>
            <a:off x="9001080" y="335772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AutoShape 587"/>
          <p:cNvSpPr/>
          <p:nvPr/>
        </p:nvSpPr>
        <p:spPr>
          <a:xfrm flipH="1">
            <a:off x="6371640" y="234936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AutoShape 672"/>
          <p:cNvSpPr/>
          <p:nvPr/>
        </p:nvSpPr>
        <p:spPr>
          <a:xfrm flipH="1">
            <a:off x="6371640" y="234936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AutoShape 673"/>
          <p:cNvSpPr/>
          <p:nvPr/>
        </p:nvSpPr>
        <p:spPr>
          <a:xfrm flipH="1">
            <a:off x="6371640" y="285264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AutoShape 674"/>
          <p:cNvSpPr/>
          <p:nvPr/>
        </p:nvSpPr>
        <p:spPr>
          <a:xfrm flipH="1">
            <a:off x="8998920" y="285264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AutoShape 675"/>
          <p:cNvSpPr/>
          <p:nvPr/>
        </p:nvSpPr>
        <p:spPr>
          <a:xfrm>
            <a:off x="6370560" y="3357720"/>
            <a:ext cx="146160" cy="287280"/>
          </a:xfrm>
          <a:prstGeom prst="downArrow">
            <a:avLst>
              <a:gd name="adj1" fmla="val 50000"/>
              <a:gd name="adj2" fmla="val 49138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AutoShape 678"/>
          <p:cNvSpPr/>
          <p:nvPr/>
        </p:nvSpPr>
        <p:spPr>
          <a:xfrm>
            <a:off x="8999640" y="3789360"/>
            <a:ext cx="144360" cy="287280"/>
          </a:xfrm>
          <a:prstGeom prst="downArrow">
            <a:avLst>
              <a:gd name="adj1" fmla="val 50000"/>
              <a:gd name="adj2" fmla="val 49751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AutoShape 679"/>
          <p:cNvSpPr/>
          <p:nvPr/>
        </p:nvSpPr>
        <p:spPr>
          <a:xfrm flipH="1">
            <a:off x="6371640" y="378936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AutoShape 680"/>
          <p:cNvSpPr/>
          <p:nvPr/>
        </p:nvSpPr>
        <p:spPr>
          <a:xfrm flipH="1">
            <a:off x="8998920" y="422100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AutoShape 681"/>
          <p:cNvSpPr/>
          <p:nvPr/>
        </p:nvSpPr>
        <p:spPr>
          <a:xfrm>
            <a:off x="6372360" y="4653000"/>
            <a:ext cx="145800" cy="287280"/>
          </a:xfrm>
          <a:prstGeom prst="downArrow">
            <a:avLst>
              <a:gd name="adj1" fmla="val 50000"/>
              <a:gd name="adj2" fmla="val 49259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AutoShape 682"/>
          <p:cNvSpPr/>
          <p:nvPr/>
        </p:nvSpPr>
        <p:spPr>
          <a:xfrm>
            <a:off x="8997840" y="4653000"/>
            <a:ext cx="146160" cy="287280"/>
          </a:xfrm>
          <a:prstGeom prst="downArrow">
            <a:avLst>
              <a:gd name="adj1" fmla="val 50000"/>
              <a:gd name="adj2" fmla="val 49138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AutoShape 683"/>
          <p:cNvSpPr/>
          <p:nvPr/>
        </p:nvSpPr>
        <p:spPr>
          <a:xfrm>
            <a:off x="6372360" y="5013360"/>
            <a:ext cx="145800" cy="287280"/>
          </a:xfrm>
          <a:prstGeom prst="downArrow">
            <a:avLst>
              <a:gd name="adj1" fmla="val 50000"/>
              <a:gd name="adj2" fmla="val 49259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AutoShape 684"/>
          <p:cNvSpPr/>
          <p:nvPr/>
        </p:nvSpPr>
        <p:spPr>
          <a:xfrm>
            <a:off x="8997840" y="5013360"/>
            <a:ext cx="146160" cy="287280"/>
          </a:xfrm>
          <a:prstGeom prst="downArrow">
            <a:avLst>
              <a:gd name="adj1" fmla="val 50000"/>
              <a:gd name="adj2" fmla="val 49138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AutoShape 687"/>
          <p:cNvSpPr/>
          <p:nvPr/>
        </p:nvSpPr>
        <p:spPr>
          <a:xfrm flipH="1">
            <a:off x="8998920" y="537372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AutoShape 688"/>
          <p:cNvSpPr/>
          <p:nvPr/>
        </p:nvSpPr>
        <p:spPr>
          <a:xfrm flipH="1">
            <a:off x="6371640" y="537372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AutoShape 796"/>
          <p:cNvSpPr/>
          <p:nvPr/>
        </p:nvSpPr>
        <p:spPr>
          <a:xfrm flipH="1">
            <a:off x="6371640" y="4221000"/>
            <a:ext cx="144360" cy="287640"/>
          </a:xfrm>
          <a:prstGeom prst="upArrow">
            <a:avLst>
              <a:gd name="adj1" fmla="val 50000"/>
              <a:gd name="adj2" fmla="val 49813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539640" y="333360"/>
          <a:ext cx="8226360" cy="606600"/>
        </p:xfrm>
        <a:graphic>
          <a:graphicData uri="http://schemas.openxmlformats.org/drawingml/2006/table">
            <a:tbl>
              <a:tblPr/>
              <a:tblGrid>
                <a:gridCol w="822636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бъемы НИР целевых программ в 2009 – 2010 гг.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Object 312"/>
          <p:cNvGraphicFramePr/>
          <p:nvPr/>
        </p:nvGraphicFramePr>
        <p:xfrm>
          <a:off x="752400" y="1649520"/>
          <a:ext cx="8353440" cy="521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9" name="Object 3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649520"/>
                    <a:ext cx="835344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Bookman Old Style"/>
              </a:rPr>
              <a:t>Распределение тем </a:t>
            </a:r>
            <a:r>
              <a:rPr b="1" lang="ru-RU" sz="2000" spc="-1" strike="noStrike">
                <a:solidFill>
                  <a:srgbClr val="ff3300"/>
                </a:solidFill>
                <a:latin typeface="Bookman Old Style"/>
              </a:rPr>
              <a:t>по факультетам</a:t>
            </a:r>
            <a:r>
              <a:rPr b="1" lang="ru-RU" sz="2000" spc="-1" strike="noStrike">
                <a:solidFill>
                  <a:srgbClr val="eaeaea"/>
                </a:solidFill>
                <a:latin typeface="Bookman Old Style"/>
              </a:rPr>
              <a:t> в 2009 ― 2010 гг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4920" y="907920"/>
          <a:ext cx="9001080" cy="5616720"/>
        </p:xfrm>
        <a:graphic>
          <a:graphicData uri="http://schemas.openxmlformats.org/drawingml/2006/table">
            <a:tbl>
              <a:tblPr/>
              <a:tblGrid>
                <a:gridCol w="2736720"/>
                <a:gridCol w="1319400"/>
                <a:gridCol w="1525680"/>
                <a:gridCol w="1265040"/>
                <a:gridCol w="2154240"/>
              </a:tblGrid>
              <a:tr h="3556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9 год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10 год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697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6 227.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059,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 975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7 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1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5884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309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 535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4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17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3 427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0 211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 т.ч.: - Морской              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нститу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 210,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8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ИГЭ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 775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7 635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2 109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2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42 004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AutoShape 986"/>
          <p:cNvSpPr/>
          <p:nvPr/>
        </p:nvSpPr>
        <p:spPr>
          <a:xfrm>
            <a:off x="6659640" y="242100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AutoShape 994"/>
          <p:cNvSpPr/>
          <p:nvPr/>
        </p:nvSpPr>
        <p:spPr>
          <a:xfrm>
            <a:off x="6659640" y="2781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AutoShape 1005"/>
          <p:cNvSpPr/>
          <p:nvPr/>
        </p:nvSpPr>
        <p:spPr>
          <a:xfrm>
            <a:off x="6659640" y="198900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AutoShape 1006"/>
          <p:cNvSpPr/>
          <p:nvPr/>
        </p:nvSpPr>
        <p:spPr>
          <a:xfrm>
            <a:off x="8748720" y="242100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AutoShape 1087"/>
          <p:cNvSpPr/>
          <p:nvPr/>
        </p:nvSpPr>
        <p:spPr>
          <a:xfrm>
            <a:off x="8748720" y="206064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AutoShape 1092"/>
          <p:cNvSpPr/>
          <p:nvPr/>
        </p:nvSpPr>
        <p:spPr>
          <a:xfrm>
            <a:off x="6659640" y="393372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AutoShape 1095"/>
          <p:cNvSpPr/>
          <p:nvPr/>
        </p:nvSpPr>
        <p:spPr>
          <a:xfrm>
            <a:off x="6659640" y="501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AutoShape 1098"/>
          <p:cNvSpPr/>
          <p:nvPr/>
        </p:nvSpPr>
        <p:spPr>
          <a:xfrm>
            <a:off x="8748720" y="508464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AutoShape 1099"/>
          <p:cNvSpPr/>
          <p:nvPr/>
        </p:nvSpPr>
        <p:spPr>
          <a:xfrm>
            <a:off x="6659640" y="6021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AutoShape 1100"/>
          <p:cNvSpPr/>
          <p:nvPr/>
        </p:nvSpPr>
        <p:spPr>
          <a:xfrm>
            <a:off x="8748720" y="6021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AutoShape 1102"/>
          <p:cNvSpPr/>
          <p:nvPr/>
        </p:nvSpPr>
        <p:spPr>
          <a:xfrm>
            <a:off x="8748720" y="551664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AutoShape 1103"/>
          <p:cNvSpPr/>
          <p:nvPr/>
        </p:nvSpPr>
        <p:spPr>
          <a:xfrm>
            <a:off x="8748720" y="278136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AutoShape 1104"/>
          <p:cNvSpPr/>
          <p:nvPr/>
        </p:nvSpPr>
        <p:spPr>
          <a:xfrm>
            <a:off x="6659640" y="335772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AutoShape 1105"/>
          <p:cNvSpPr/>
          <p:nvPr/>
        </p:nvSpPr>
        <p:spPr>
          <a:xfrm>
            <a:off x="8748720" y="335772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AutoShape 1106"/>
          <p:cNvSpPr/>
          <p:nvPr/>
        </p:nvSpPr>
        <p:spPr>
          <a:xfrm>
            <a:off x="8748720" y="393372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AutoShape 1109"/>
          <p:cNvSpPr/>
          <p:nvPr/>
        </p:nvSpPr>
        <p:spPr>
          <a:xfrm>
            <a:off x="8748720" y="4581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AutoShape 1111"/>
          <p:cNvSpPr/>
          <p:nvPr/>
        </p:nvSpPr>
        <p:spPr>
          <a:xfrm>
            <a:off x="6659640" y="450864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77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aeaea"/>
                </a:solidFill>
                <a:latin typeface="Bookman Old Style"/>
              </a:rPr>
              <a:t>Сведения по НИР за 2010 год </a:t>
            </a:r>
            <a:r>
              <a:rPr b="1" lang="ru-RU" sz="2200" spc="-1" strike="noStrike">
                <a:solidFill>
                  <a:srgbClr val="ff3300"/>
                </a:solidFill>
                <a:latin typeface="Bookman Old Style"/>
              </a:rPr>
              <a:t>(по факультетам РГГМУ)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68360" y="1052640"/>
          <a:ext cx="8424720" cy="5175000"/>
        </p:xfrm>
        <a:graphic>
          <a:graphicData uri="http://schemas.openxmlformats.org/drawingml/2006/table">
            <a:tbl>
              <a:tblPr/>
              <a:tblGrid>
                <a:gridCol w="1441440"/>
                <a:gridCol w="287280"/>
                <a:gridCol w="720720"/>
                <a:gridCol w="289080"/>
                <a:gridCol w="647640"/>
                <a:gridCol w="287280"/>
                <a:gridCol w="574560"/>
                <a:gridCol w="289080"/>
                <a:gridCol w="684000"/>
                <a:gridCol w="179640"/>
                <a:gridCol w="649080"/>
                <a:gridCol w="287280"/>
                <a:gridCol w="646200"/>
                <a:gridCol w="505080"/>
                <a:gridCol w="936360"/>
              </a:tblGrid>
              <a:tr h="86328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инистерство образования и науки Российской Федерации 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егиональные программы (Санкт-Петербург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ругие минист-ва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еждун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роекты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0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3 981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2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285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5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91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6 227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9 675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 975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93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2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5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956,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000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628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5 884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 352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82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 5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 535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7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17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3 351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864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3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 0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0221.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 т.ч.:   Морской институт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8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8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ГЭИ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6 579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 056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7 435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5861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 786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785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36,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95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12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2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42004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1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560" y="272520"/>
            <a:ext cx="8569080" cy="924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ведения о НИР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 в 2010 году (часть 1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79280" y="1700280"/>
          <a:ext cx="8785440" cy="4674960"/>
        </p:xfrm>
        <a:graphic>
          <a:graphicData uri="http://schemas.openxmlformats.org/drawingml/2006/table">
            <a:tbl>
              <a:tblPr/>
              <a:tblGrid>
                <a:gridCol w="2448000"/>
                <a:gridCol w="3097080"/>
                <a:gridCol w="1368720"/>
                <a:gridCol w="1871640"/>
              </a:tblGrid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ДАКЗ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етеорологических прогнозов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 212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Ф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 165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КО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75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7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кеан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751,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УПЗ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5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ПО и ОП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 411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ЮНЕСК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 019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И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751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физики и гидропрогноз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135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логии суш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569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метр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87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еодезии и гидроге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0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Васильев Роман</cp:lastModifiedBy>
  <dcterms:modified xsi:type="dcterms:W3CDTF">2011-01-26T14:45:04Z</dcterms:modified>
  <cp:revision>487</cp:revision>
  <dc:subject/>
  <dc:title>Итоговая сессия Ученого совета РГГМУ</dc:title>
</cp:coreProperties>
</file>